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A56-BEC5-4002-9BDD-E3331D6B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E1A-A0CB-4BB3-B7C2-75D7EE0B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A1D-91FB-4061-9A79-A9F8B8F2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AE8-C43C-4999-955B-395C7534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7FC-1742-444F-BEC5-BE43A3C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FB4-4221-472D-A8A8-BB9C566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F1D-D4FB-4052-AC22-D5329A4B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427-16A6-4BCB-8C01-B54E6150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386-C302-487D-8DE2-0E2BFCB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248-F1EE-44B1-8600-8CAFFF5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C63-9CD7-4C69-8CF4-EAE7355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19C-5516-4CC3-B33F-1FBAD3A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D47-ED8F-4432-96FE-C6DE8E7BC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           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1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9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Estas estudiando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Spanish, write a list of at least 15 verbs learned so far. Then seperate them into three columns: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-AR, -ER, 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l presente progressivo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ibing an ac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 the present progressive in Spanish to express an action in progress, an action that is presently taking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e present progressive you use the verb ESTAR and the present partic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onjugate the verb E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 Ud.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Uds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2360" y="4724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3080" y="5181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5720" y="5715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8240" y="4724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74480" y="5715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l participio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e present participle of –AR verbs, you remove the ending and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A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root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81280"/>
            <a:ext cx="77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0360" y="4191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e present participle of –ER &amp; -IR verbs, you remove the –ER/-IR and replace it with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–I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16600" y="252900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124080"/>
            <a:ext cx="77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2720" y="306216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51460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5600" y="304812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02400" y="243828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19112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6400" y="487692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9280" y="481500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35560" y="420084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29200" y="479916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s LEER and TRAER have remove the –ER and replac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  –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Y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9280" y="266688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360" y="380988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resent participle HABLAR would be conjugated in the follow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.ella.Ud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.ellas.uds. 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759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.ella.Ud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.ellas.u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.ella.Ud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.ellas.uds. 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PRUE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EXAMEN UNIDAD 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9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4:58:39Z</dcterms:created>
  <dc:creator>Helen Zumaeta</dc:creator>
  <dc:description/>
  <dc:language>en-US</dc:language>
  <cp:lastModifiedBy>Helen Zumaeta</cp:lastModifiedBy>
  <dcterms:modified xsi:type="dcterms:W3CDTF">2013-01-31T16:20:20Z</dcterms:modified>
  <cp:revision>7</cp:revision>
  <dc:subject/>
  <dc:title>Me llamo _______             Clase 7 IM La fecha es el 21 de octubre del 2011</dc:title>
</cp:coreProperties>
</file>